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3CB-B612-4A05-AEB3-2BDA99DF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432-01A8-4409-808E-31279D8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F0E-76DF-4EAC-9F4C-A624F9C0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23E-DEA9-4B1A-A029-836A1ED7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452-48C8-4447-A80A-ABCD9C23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6EF-0DA8-4E4B-B9BB-49D733D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041-7F38-4A01-BF67-7998BA3B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1241-FA2E-4D04-84D5-E16E0CC2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E09C-37A9-4133-851B-5C7E0A01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E621-EF08-4F36-925A-9046524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7369-E580-4A90-B512-AFE148E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A7A-71EC-4369-ACBF-DB03E521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269-F886-41A8-9D3E-AA21AE1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C8AB-B48C-41DD-AA01-3A65633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C8C-D579-431D-912B-402A403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BED8-FD6C-4D86-89A2-240FBA82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6923-BF7F-4170-84C1-5877A2E9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CD7-4BE7-497C-8523-2313ED2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CD1-C118-48E9-9FA9-A475F2D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2AF-5821-4D53-9F08-C6C3105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2EF-A7B5-43A0-891B-29B6BA8E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03C-1D94-48EF-82E5-84B2EF14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76F-B18A-4D8A-9CC8-DEF97CD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0EB-9BF7-44FB-B838-7DEB2F2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65E-E7B9-4B4A-B591-CD3F255D40F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2CC6-C38B-457B-B77D-1F492177066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An overview of Land Rights and Native Title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y Hammy + Ten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nderstanding Native Tit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cognition in Australian Law that Indigenous people continue to hold rights to their lands and waters that stem from their traditional laws and custom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ve Title has its source in he body of Law and custom acknowledged and observed by the claimants ancestors when Australia was colonised by Europea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ative title is like a bundle of non-exclusive rights, meaning that there is no rights to control access to, and use of the are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example, it includes the rights to live on the area, hunt, fish, gather food or teach law and customs on the countr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nderstanding Land Righ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land is not owned by the Aboriginals but shar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Europeans, the land is a commodity to be bought or sol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Aboriginal people, the land is referred to as their moth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riginal people are born into the responsibility to care for their land, today and with future gener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e land is my backbone…I only stand straight, happy, proud and not ashamed about my colour because I still have land…I think of land a history of my nation” -Galarrwuy Yunipingu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508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59691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3:36:58Z</dcterms:created>
  <dc:creator>MD Anderson Cancer Center</dc:creator>
  <dc:description/>
  <dc:language>en-US</dc:language>
  <cp:lastModifiedBy>MD Anderson Cancer Center</cp:lastModifiedBy>
  <dcterms:modified xsi:type="dcterms:W3CDTF">2010-11-25T02:37:33Z</dcterms:modified>
  <cp:revision>9</cp:revision>
  <dc:subject/>
  <dc:title>An overview of Land Rights and Native Title</dc:title>
</cp:coreProperties>
</file>